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494ba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E65809-FBAD-4810-88AC-C5E9E631F7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lissa – Opens until slide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xa- 10-1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ul- 17-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- Q&amp;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97FF89-42B3-4612-8417-E5C1D4753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xa starts and ends on Slide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45F718-C002-49FA-BFB7-03657D21AA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information requested--- agency’s strengths for LGBTQ, Brain injuries and specific languag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04D0B6-1DFB-40B5-8467-35BB2DA7ED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45DFD3-1B86-48FC-B010-E78A8923C5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ase complete a different attachment D for each AS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5BF98E-2046-4752-A274-6CFE48B6D4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D0CC0B-E5F1-4F83-BAF9-5BA91353B6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5948E8-25F2-445E-BA69-0D996A1B60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AE3694-6AA0-4FD3-B24C-FD77CA9D2E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ul starts and finishes 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20D4F4-1BC2-4544-ACAC-0FB16B7D0F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B8C540-1385-400C-9AB2-1D5C9FCD02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702FFE-2478-4EA2-954D-95098F7D55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lissa starts and ends on slide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30855D-AE97-4982-8A36-ABF595D40F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4F4906-2C93-4D1D-B3AC-5C3D1F1B5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unable to meet requirements, you must submit an explanation and plan to comply with the requir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requirement- evidence of encryption softw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3D43AD-BF7F-4F7A-A253-CE37420999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unable to meet requirements, you must submit an explanation and plan to comply with the requir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requirement- evidence of encryption softw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1A66B6-16D1-4261-A9FD-AB958F67C4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03B4BD-A80B-4BDF-9D5F-01A5D0571D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CFC490-4F76-4217-8F75-8BC41CBDEF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2B89BA-8FFD-409E-B39A-7E83047FB2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Minutes for Q&amp;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A7BBCE-5945-49B1-92B1-975CECA486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8F47A6-9DCF-43D1-9D3B-6BAE898DDD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1E7B8B-FA41-4E2F-AA79-F17FFCE6F5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1A9755-542F-4C2B-815D-A35EB24F9E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CBEE57-334A-447E-9AA3-0929F7FBBD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06F337-CF78-4C69-9B48-17D5158DBF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DF7486-6A57-4DD3-BCA8-3479D173C0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809F00-E665-4129-B661-F7AB91C1DB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F124-B78B-4E26-8A02-C4F33C126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BF3B-158B-495A-BB8F-223A4FD2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EDEE-5C56-4B47-BBA9-59C6A7DE6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D888-609F-421A-9089-8DEBB7EC5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923F-D9D5-44F7-A332-5FED36C7D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6B8E-1F87-4942-B607-6B0D8189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12074-0473-4B59-A559-6FEE4B72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FE13-6789-457F-BC4A-30A24883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8CC9-DE9E-490E-8307-7A7B8673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17FA-3766-47C1-8E3E-DAD2B2C3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1C2D9-A353-4E79-8CE3-815F8B98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817F-1E7D-44A1-A5F2-979FCA45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B398-7D55-4EFD-98FF-8EAB479E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12E5-29C4-466C-B823-7B7E7695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3660-5D5A-4681-A3CF-1E8B6F4A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54D6B-7CC0-49BE-8C21-2FFA772AF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D6C0-EB07-4ECD-9AFE-EE5936375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2668D-1A95-48FF-B83C-662B5E9FD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0B0E3-AA74-4B36-A503-DBB1A6F5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7390E-BE0F-4284-8AA0-62559B62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EE973-65AF-4F5D-A1C3-AEC79AD1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DDB40-A5E9-4806-ABEA-4487F33C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7CAA-A593-43A0-8E98-36618F4B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1CD37-B479-4858-A6EA-393B0002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DCF43-8AC0-4E4A-BD26-94FCBA49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386A4-6A2B-405B-BD56-47E44C48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AEF5E-9C25-4A51-9954-FCE80DA9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08160-86F8-4CE1-A6C4-37ACC81D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9F536-A586-4788-AD5D-B1BEA29E3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5FCE6-6D7D-41FD-97B1-5CD9274DE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AEC92-8EC5-4B73-83E1-5E464CDD8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2DE9E-5684-4027-9F01-D7E0400A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93F83-0FC8-4D24-BD91-905EABAE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C4F8-35C5-45F8-B0E9-2A8DBB9A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8EC75-5991-4013-A3D9-0CA30035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9F1DD-0282-415D-8F10-3A467815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CC880-32B7-4218-A8B6-79FF685C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3DCFA-47A7-44AF-9DAC-7E210C09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CD5D6-C1A6-454A-87BF-00320215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D9052-0906-4231-807D-3F6127F9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74F6E-B4FE-46DA-8951-88E39A59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A4B92-9EA3-4EBA-BEDF-69D86E76F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CCC9E-33C3-4EC8-A472-90375C1F7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E6C3-51E7-4381-8B5F-D3B2C8BF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CA35-F29C-45BA-823B-47A2E9B0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B240-29BF-4B26-983C-AA38E659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C344-20F0-4868-BD6F-8E55CA55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E07B-8E60-468D-9D8F-880C57C4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3494ba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3494b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8b6c0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8f98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7fc1d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3494b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494ba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3494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6AC797-7D4B-411D-BC0C-67A4150E4D99}" type="slidenum">
              <a:rPr b="0" lang="en-US" sz="900" spc="-1" strike="noStrike">
                <a:solidFill>
                  <a:srgbClr val="3494b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3494b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8b6c0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8f98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7fc1d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3494b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3494ba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494ba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3494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47C9F8-639E-4056-AA8E-03A1F2000D95}" type="slidenum">
              <a:rPr b="0" lang="en-US" sz="900" spc="-1" strike="noStrike">
                <a:solidFill>
                  <a:srgbClr val="3494b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3494ba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3494b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8b6c0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8f98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7fc1d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3494b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ef8c6a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ef8c6a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494ba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3494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8FA934-4460-49FC-989F-4BE35F55DD12}" type="slidenum">
              <a:rPr b="0" lang="en-US" sz="900" spc="-1" strike="noStrike">
                <a:solidFill>
                  <a:srgbClr val="3494b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3494ba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3494b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8b6c0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8f98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7fc1d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3494b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ef8c6a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ef8c6a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494ba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3494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F0D8B7-1445-4B44-8359-B92FAEDE8CA7}" type="slidenum">
              <a:rPr b="0" lang="en-US" sz="900" spc="-1" strike="noStrike">
                <a:solidFill>
                  <a:srgbClr val="3494b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s://noi.800ageinfo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noi.800ageinfo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shcinfo.org/" TargetMode="External"/><Relationship Id="rId2" Type="http://schemas.openxmlformats.org/officeDocument/2006/relationships/hyperlink" Target="http://www.centralboston.org/" TargetMode="External"/><Relationship Id="rId3" Type="http://schemas.openxmlformats.org/officeDocument/2006/relationships/hyperlink" Target="http://www.ethocare.org/" TargetMode="External"/><Relationship Id="rId4" Type="http://schemas.openxmlformats.org/officeDocument/2006/relationships/hyperlink" Target="mailto:BostonConsortium@centralboston.org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272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rebuchet MS"/>
              </a:rPr>
              <a:t>The Boston Consortium Bidder’s Conference</a:t>
            </a:r>
            <a:endParaRPr b="0" lang="en-US" sz="54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723920" y="2927520"/>
            <a:ext cx="3962520" cy="18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ay 12, 2022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2:00-4:00 p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1" name="Content Placeholder 3" descr=""/>
          <p:cNvPicPr/>
          <p:nvPr/>
        </p:nvPicPr>
        <p:blipFill>
          <a:blip r:embed="rId1"/>
          <a:stretch/>
        </p:blipFill>
        <p:spPr>
          <a:xfrm>
            <a:off x="7202520" y="4917960"/>
            <a:ext cx="1255680" cy="1755720"/>
          </a:xfrm>
          <a:prstGeom prst="rect">
            <a:avLst/>
          </a:prstGeom>
          <a:ln w="0">
            <a:noFill/>
          </a:ln>
        </p:spPr>
      </p:pic>
      <p:pic>
        <p:nvPicPr>
          <p:cNvPr id="222" name="Content Placeholder 9" descr=""/>
          <p:cNvPicPr/>
          <p:nvPr/>
        </p:nvPicPr>
        <p:blipFill>
          <a:blip r:embed="rId2"/>
          <a:stretch/>
        </p:blipFill>
        <p:spPr>
          <a:xfrm>
            <a:off x="5486400" y="5140440"/>
            <a:ext cx="1295280" cy="1312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"/>
          <p:cNvPicPr/>
          <p:nvPr/>
        </p:nvPicPr>
        <p:blipFill>
          <a:blip r:embed="rId3"/>
          <a:stretch/>
        </p:blipFill>
        <p:spPr>
          <a:xfrm>
            <a:off x="3718080" y="5070600"/>
            <a:ext cx="137160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7631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ompleted Administrative Overview</a:t>
            </a:r>
            <a:endParaRPr b="0" lang="en-US" sz="44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09120" y="2057040"/>
            <a:ext cx="76964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Answer each question thoroughly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Provide as much detail as possible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Slide Number Placehold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9D75C3-24EB-4E30-9D70-44710FF17F0D}" type="slidenum">
              <a:rPr b="1" lang="en-US" sz="1300" spc="-1" strike="noStrike">
                <a:solidFill>
                  <a:srgbClr val="3494ba"/>
                </a:solidFill>
                <a:latin typeface="Trebuchet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ompany Summary</a:t>
            </a:r>
            <a:endParaRPr b="0" lang="en-US" sz="44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838080" y="1294920"/>
            <a:ext cx="7693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Maximum response -5 page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ompany’s mission statement, brief history and characteristics etc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ompany’s resources and experience in serving frail elders, low-income and disabled individual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Outline your agency’s additional trainings and strengths in the following area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LGBTQ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Brain injuries- TBI/ABI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pecific language and cultural competences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Slide Number Placehold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A81470-8E4B-4399-B354-8BFFD141097D}" type="slidenum">
              <a:rPr b="1" lang="en-US" sz="1300" spc="-1" strike="noStrike">
                <a:solidFill>
                  <a:srgbClr val="3494ba"/>
                </a:solidFill>
                <a:latin typeface="Trebuchet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9246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Attachment C -Geographic Service Area</a:t>
            </a:r>
            <a:endParaRPr b="0" lang="en-US" sz="36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19047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rvice areas are listed for each ASAP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omplete as thoroughly as possible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If you cannot serve an area, do not check i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Slide Number Placehold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BEFBD3-EF75-480D-8A23-4D5600C15FB1}" type="slidenum">
              <a:rPr b="1" lang="en-US" sz="1300" spc="-1" strike="noStrike">
                <a:solidFill>
                  <a:srgbClr val="3494ba"/>
                </a:solidFill>
                <a:latin typeface="Trebuchet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Attachment D -Service Rates</a:t>
            </a:r>
            <a:endParaRPr b="0" lang="en-US" sz="44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28560" y="1294920"/>
            <a:ext cx="7886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List your projected rates for each servic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If awarded a contract, final rate negotiations will be with each ASAP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Clearly indicate rate per unit of service (e.g. hour, day, etc.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Note certain rates are set by the State (see  page 2 of Attachment D) so cannot be negotiated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Slide Number Placehold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7FB4D5-8A65-4CEC-AA65-30AC049B297E}" type="slidenum">
              <a:rPr b="1" lang="en-US" sz="1300" spc="-1" strike="noStrike">
                <a:solidFill>
                  <a:srgbClr val="3494ba"/>
                </a:solidFill>
                <a:latin typeface="Trebuchet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79246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Service Specific Attachments</a:t>
            </a:r>
            <a:endParaRPr b="0" lang="en-US" sz="44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560" y="1143000"/>
            <a:ext cx="81500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tandard EOEA document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omplete these thoroughly; responses should match those in the Administrative Overview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Slide Number Placehold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B57E83-D441-4ADE-BB67-45BD4F5D80BF}" type="slidenum">
              <a:rPr b="1" lang="en-US" sz="1300" spc="-1" strike="noStrike">
                <a:solidFill>
                  <a:srgbClr val="3494ba"/>
                </a:solidFill>
                <a:latin typeface="Trebuchet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79246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Service Specific Attachments cont. </a:t>
            </a:r>
            <a:endParaRPr b="0" lang="en-US" sz="44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80880" y="1447560"/>
            <a:ext cx="8150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Please note the following services do not have Service Specific Attachments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ransitional Assistance (adding housing search support)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inancial Consultation Services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If you are interested in applying for one of these services, please describe in detail how you will comply with the definition as outlined in Attachment A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5" name="Slide Number Placehold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B883B1-9D7B-40E8-A03E-9994ABABA90A}" type="slidenum">
              <a:rPr b="1" lang="en-US" sz="1300" spc="-1" strike="noStrike">
                <a:solidFill>
                  <a:srgbClr val="3494ba"/>
                </a:solidFill>
                <a:latin typeface="Trebuchet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Sample Organizational Chart</a:t>
            </a:r>
            <a:endParaRPr b="0" lang="en-US" sz="4400" spc="-1" strike="noStrike">
              <a:solidFill>
                <a:srgbClr val="3494ba"/>
              </a:solidFill>
              <a:latin typeface="Trebuchet MS"/>
            </a:endParaRPr>
          </a:p>
        </p:txBody>
      </p:sp>
      <p:grpSp>
        <p:nvGrpSpPr>
          <p:cNvPr id="267" name="Content Placeholder 7172"/>
          <p:cNvGrpSpPr/>
          <p:nvPr/>
        </p:nvGrpSpPr>
        <p:grpSpPr>
          <a:xfrm>
            <a:off x="371520" y="1082520"/>
            <a:ext cx="8154720" cy="4876200"/>
            <a:chOff x="371520" y="1082520"/>
            <a:chExt cx="8154720" cy="4876200"/>
          </a:xfrm>
        </p:grpSpPr>
        <p:cxnSp>
          <p:nvCxnSpPr>
            <p:cNvPr id="268" name="_s1028"/>
            <p:cNvCxnSpPr>
              <a:stCxn id="269" idx="0"/>
              <a:endCxn id="270" idx="3"/>
            </p:cNvCxnSpPr>
            <p:nvPr/>
          </p:nvCxnSpPr>
          <p:spPr>
            <a:xfrm flipV="1" rot="16200000">
              <a:off x="2044800" y="3957120"/>
              <a:ext cx="610200" cy="954360"/>
            </a:xfrm>
            <a:prstGeom prst="bentConnector3">
              <a:avLst>
                <a:gd name="adj1" fmla="val 23022"/>
              </a:avLst>
            </a:prstGeom>
            <a:ln w="28440">
              <a:solidFill>
                <a:srgbClr val="cedbe6"/>
              </a:solidFill>
              <a:miter/>
            </a:ln>
          </p:spPr>
        </p:cxnSp>
        <p:cxnSp>
          <p:nvCxnSpPr>
            <p:cNvPr id="271" name="_s1029"/>
            <p:cNvCxnSpPr>
              <a:stCxn id="272" idx="0"/>
              <a:endCxn id="273" idx="3"/>
            </p:cNvCxnSpPr>
            <p:nvPr/>
          </p:nvCxnSpPr>
          <p:spPr>
            <a:xfrm flipV="1" rot="16200000">
              <a:off x="7081560" y="3956400"/>
              <a:ext cx="610200" cy="955800"/>
            </a:xfrm>
            <a:prstGeom prst="bentConnector3">
              <a:avLst>
                <a:gd name="adj1" fmla="val 23022"/>
              </a:avLst>
            </a:prstGeom>
            <a:ln w="28440">
              <a:solidFill>
                <a:srgbClr val="cedbe6"/>
              </a:solidFill>
              <a:miter/>
            </a:ln>
          </p:spPr>
        </p:cxnSp>
        <p:cxnSp>
          <p:nvCxnSpPr>
            <p:cNvPr id="274" name="_s1030"/>
            <p:cNvCxnSpPr>
              <a:stCxn id="275" idx="0"/>
              <a:endCxn id="273" idx="3"/>
            </p:cNvCxnSpPr>
            <p:nvPr/>
          </p:nvCxnSpPr>
          <p:spPr>
            <a:xfrm flipH="1" flipV="1" rot="5400000">
              <a:off x="6242400" y="4072320"/>
              <a:ext cx="610200" cy="723960"/>
            </a:xfrm>
            <a:prstGeom prst="bentConnector3">
              <a:avLst>
                <a:gd name="adj1" fmla="val 23022"/>
              </a:avLst>
            </a:prstGeom>
            <a:ln w="28440">
              <a:solidFill>
                <a:srgbClr val="cedbe6"/>
              </a:solidFill>
              <a:miter/>
            </a:ln>
          </p:spPr>
        </p:cxnSp>
        <p:cxnSp>
          <p:nvCxnSpPr>
            <p:cNvPr id="276" name="_s1031"/>
            <p:cNvCxnSpPr>
              <a:stCxn id="277" idx="0"/>
              <a:endCxn id="270" idx="3"/>
            </p:cNvCxnSpPr>
            <p:nvPr/>
          </p:nvCxnSpPr>
          <p:spPr>
            <a:xfrm flipH="1" flipV="1" rot="5400000">
              <a:off x="1205640" y="4071600"/>
              <a:ext cx="610200" cy="725760"/>
            </a:xfrm>
            <a:prstGeom prst="bentConnector3">
              <a:avLst>
                <a:gd name="adj1" fmla="val 23022"/>
              </a:avLst>
            </a:prstGeom>
            <a:ln w="28440">
              <a:solidFill>
                <a:srgbClr val="cedbe6"/>
              </a:solidFill>
              <a:miter/>
            </a:ln>
          </p:spPr>
        </p:cxnSp>
        <p:cxnSp>
          <p:nvCxnSpPr>
            <p:cNvPr id="278" name="_s1032"/>
            <p:cNvCxnSpPr>
              <a:stCxn id="279" idx="0"/>
              <a:endCxn id="280" idx="3"/>
            </p:cNvCxnSpPr>
            <p:nvPr/>
          </p:nvCxnSpPr>
          <p:spPr>
            <a:xfrm flipV="1" rot="16200000">
              <a:off x="4144320" y="4376160"/>
              <a:ext cx="610200" cy="115920"/>
            </a:xfrm>
            <a:prstGeom prst="bentConnector3">
              <a:avLst>
                <a:gd name="adj1" fmla="val 23022"/>
              </a:avLst>
            </a:prstGeom>
            <a:ln w="28440">
              <a:solidFill>
                <a:srgbClr val="cedbe6"/>
              </a:solidFill>
              <a:miter/>
            </a:ln>
          </p:spPr>
        </p:cxnSp>
        <p:cxnSp>
          <p:nvCxnSpPr>
            <p:cNvPr id="281" name="_s1033"/>
            <p:cNvCxnSpPr>
              <a:stCxn id="273" idx="0"/>
              <a:endCxn id="282" idx="3"/>
            </p:cNvCxnSpPr>
            <p:nvPr/>
          </p:nvCxnSpPr>
          <p:spPr>
            <a:xfrm flipV="1" rot="16200000">
              <a:off x="5402520" y="1289520"/>
              <a:ext cx="610200" cy="2632320"/>
            </a:xfrm>
            <a:prstGeom prst="bentConnector3">
              <a:avLst>
                <a:gd name="adj1" fmla="val 23022"/>
              </a:avLst>
            </a:prstGeom>
            <a:ln w="28440">
              <a:solidFill>
                <a:srgbClr val="cedbe6"/>
              </a:solidFill>
              <a:miter/>
            </a:ln>
          </p:spPr>
        </p:cxnSp>
        <p:cxnSp>
          <p:nvCxnSpPr>
            <p:cNvPr id="283" name="_s1034"/>
            <p:cNvCxnSpPr>
              <a:stCxn id="280" idx="0"/>
              <a:endCxn id="282" idx="3"/>
            </p:cNvCxnSpPr>
            <p:nvPr/>
          </p:nvCxnSpPr>
          <p:spPr>
            <a:xfrm flipV="1" rot="16200000">
              <a:off x="4143240" y="2548800"/>
              <a:ext cx="610200" cy="114120"/>
            </a:xfrm>
            <a:prstGeom prst="bentConnector3">
              <a:avLst>
                <a:gd name="adj1" fmla="val 23022"/>
              </a:avLst>
            </a:prstGeom>
            <a:ln w="28440">
              <a:solidFill>
                <a:srgbClr val="cedbe6"/>
              </a:solidFill>
              <a:miter/>
            </a:ln>
          </p:spPr>
        </p:cxnSp>
        <p:cxnSp>
          <p:nvCxnSpPr>
            <p:cNvPr id="284" name="_s1035"/>
            <p:cNvCxnSpPr>
              <a:stCxn id="270" idx="0"/>
              <a:endCxn id="282" idx="3"/>
            </p:cNvCxnSpPr>
            <p:nvPr/>
          </p:nvCxnSpPr>
          <p:spPr>
            <a:xfrm flipH="1" flipV="1" rot="5400000">
              <a:off x="2884680" y="1404000"/>
              <a:ext cx="610200" cy="2404080"/>
            </a:xfrm>
            <a:prstGeom prst="bentConnector3">
              <a:avLst>
                <a:gd name="adj1" fmla="val 23022"/>
              </a:avLst>
            </a:prstGeom>
            <a:ln w="28440">
              <a:solidFill>
                <a:srgbClr val="cedbe6"/>
              </a:solidFill>
              <a:miter/>
            </a:ln>
          </p:spPr>
        </p:cxnSp>
        <p:sp>
          <p:nvSpPr>
            <p:cNvPr id="282" name="_s1036"/>
            <p:cNvSpPr/>
            <p:nvPr/>
          </p:nvSpPr>
          <p:spPr>
            <a:xfrm>
              <a:off x="3728880" y="1082520"/>
              <a:ext cx="1440000" cy="1218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494ba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494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rbel"/>
                </a:rPr>
                <a:t>(BOD)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rbel"/>
                </a:rPr>
                <a:t>Owner/President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0" name="_s1037"/>
            <p:cNvSpPr/>
            <p:nvPr/>
          </p:nvSpPr>
          <p:spPr>
            <a:xfrm>
              <a:off x="1209960" y="2910960"/>
              <a:ext cx="1440000" cy="1218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58b6c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58b6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rbel"/>
                </a:rPr>
                <a:t>CFO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0" name="_s1038"/>
            <p:cNvSpPr/>
            <p:nvPr/>
          </p:nvSpPr>
          <p:spPr>
            <a:xfrm>
              <a:off x="3728880" y="2910960"/>
              <a:ext cx="1440000" cy="1218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58b6c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58b6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rbel"/>
                </a:rPr>
                <a:t>Operation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rbe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Corbel"/>
                </a:rPr>
                <a:t>Manager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3" name="_s1039"/>
            <p:cNvSpPr/>
            <p:nvPr/>
          </p:nvSpPr>
          <p:spPr>
            <a:xfrm>
              <a:off x="6247440" y="2910960"/>
              <a:ext cx="1440000" cy="1218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58b6c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58b6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rbel"/>
                </a:rPr>
                <a:t>Services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rbe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Corbel"/>
                </a:rPr>
                <a:t>Manager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9" name="_s1040"/>
            <p:cNvSpPr/>
            <p:nvPr/>
          </p:nvSpPr>
          <p:spPr>
            <a:xfrm>
              <a:off x="3730680" y="4739760"/>
              <a:ext cx="1438200" cy="1218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b9f25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b9f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rbel"/>
                </a:rPr>
                <a:t>Operation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rbe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Corbel"/>
                </a:rPr>
                <a:t>Team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7" name="_s1041"/>
            <p:cNvSpPr/>
            <p:nvPr/>
          </p:nvSpPr>
          <p:spPr>
            <a:xfrm>
              <a:off x="371520" y="4739760"/>
              <a:ext cx="1438560" cy="1218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b9f25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b9f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rbel"/>
                </a:rPr>
                <a:t>Accounting 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rbel"/>
                </a:rPr>
                <a:t>Departments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5" name="_s1042"/>
            <p:cNvSpPr/>
            <p:nvPr/>
          </p:nvSpPr>
          <p:spPr>
            <a:xfrm>
              <a:off x="5409000" y="4739760"/>
              <a:ext cx="1438560" cy="1218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b9f25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b9f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rbel"/>
                </a:rPr>
                <a:t>Service 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rbel"/>
                </a:rPr>
                <a:t>workers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2" name="_s1043"/>
            <p:cNvSpPr/>
            <p:nvPr/>
          </p:nvSpPr>
          <p:spPr>
            <a:xfrm>
              <a:off x="7088040" y="4739760"/>
              <a:ext cx="1438200" cy="1218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b9f25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b9f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rbel"/>
                </a:rPr>
                <a:t>Coordinators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9" name="_s1044"/>
            <p:cNvSpPr/>
            <p:nvPr/>
          </p:nvSpPr>
          <p:spPr>
            <a:xfrm>
              <a:off x="2050200" y="4739760"/>
              <a:ext cx="1440000" cy="1218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b9f25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b9f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rbel"/>
                </a:rPr>
                <a:t>HR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85" name="Slide Number Placehold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BF614C-857B-49D4-B779-B1959E45FD5D}" type="slidenum">
              <a:rPr b="1" lang="en-US" sz="1300" spc="-1" strike="noStrike">
                <a:solidFill>
                  <a:srgbClr val="3494ba"/>
                </a:solidFill>
                <a:latin typeface="Trebuchet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Quality Improvement Plan</a:t>
            </a:r>
            <a:endParaRPr b="0" lang="en-US" sz="44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85800" y="1905120"/>
            <a:ext cx="77040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Each bidder agency must have processes and systems in place to evaluate and improve the quality of their services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escribe how your company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Evaluates and monitors the quality of services provided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Uses monitoring and evaluation data to improve service qualit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rains its employees on qualit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Slide Number Placehold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1045A0-20D1-4CB0-A3D8-DCED4921EB9F}" type="slidenum">
              <a:rPr b="1" lang="en-US" sz="1300" spc="-1" strike="noStrike">
                <a:solidFill>
                  <a:srgbClr val="3494ba"/>
                </a:solidFill>
                <a:latin typeface="Trebuchet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144360"/>
            <a:ext cx="792504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onsumer Not at Home Policy</a:t>
            </a:r>
            <a:endParaRPr b="0" lang="en-US" sz="44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837720" y="1218960"/>
            <a:ext cx="7162920" cy="47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Each bidder agency must have a policy in place for how to respond when a consumer is not at home*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Include a copy of your policy with your applica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b1a23"/>
                </a:solidFill>
                <a:latin typeface="Trebuchet MS"/>
              </a:rPr>
              <a:t>*Note: Please refer to </a:t>
            </a:r>
            <a:r>
              <a:rPr b="0" lang="en-US" sz="2600" spc="-1" strike="noStrike">
                <a:solidFill>
                  <a:srgbClr val="1d6295"/>
                </a:solidFill>
                <a:latin typeface="Trebuchet MS"/>
              </a:rPr>
              <a:t>Provider Network QA Manual RFR 2010 </a:t>
            </a:r>
            <a:r>
              <a:rPr b="0" lang="en-US" sz="2600" spc="-1" strike="noStrike">
                <a:solidFill>
                  <a:srgbClr val="1b1a23"/>
                </a:solidFill>
                <a:latin typeface="Trebuchet MS"/>
              </a:rPr>
              <a:t>section 4.4 for information that must be included in this policy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Slide Number Placehold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D66880-F516-4556-B780-2AE0EDEEC454}" type="slidenum">
              <a:rPr b="1" lang="en-US" sz="1300" spc="-1" strike="noStrike">
                <a:solidFill>
                  <a:srgbClr val="3494ba"/>
                </a:solidFill>
                <a:latin typeface="Trebuchet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Financial Submission Requirements</a:t>
            </a:r>
            <a:br>
              <a:rPr sz="4000"/>
            </a:br>
            <a:endParaRPr b="0" lang="en-US" sz="36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04920" y="1294920"/>
            <a:ext cx="8076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Boston consortium requires that all potential provider organizations have the financial resources to successfully match our authorization and payment schedul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roviders with an operating budget over $500,000 must provide a copy of their most recent audited financial statement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roviders with operating budgets between $250,001 to $499,999 must provide either financial statements either audited or reviewed by a CP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roviders with operating budgets less than $250,000 should provide their most recent fiscal year-end balance sheet, an operating statement for the same period and bank statements for the last three months of the fiscal year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e need to ascertain that providers have the ability to meet 3 months of payroll expenses.  If you have additional documents to support this, please include them with this proposal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4" name="Slide Number Placehold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E9527F-E4D2-4847-BB04-5623C438EFA8}" type="slidenum">
              <a:rPr b="1" lang="en-US" sz="1300" spc="-1" strike="noStrike">
                <a:solidFill>
                  <a:srgbClr val="3494ba"/>
                </a:solidFill>
                <a:latin typeface="Trebuchet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Agenda</a:t>
            </a:r>
            <a:r>
              <a:rPr b="0" lang="en-US" sz="4400" spc="-1" strike="noStrike">
                <a:solidFill>
                  <a:srgbClr val="3494ba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837720" y="137160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3494ba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elcome and Introduction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spcBef>
                <a:spcPts val="1001"/>
              </a:spcBef>
              <a:buClr>
                <a:srgbClr val="3494ba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General Overview of RFP Proces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spcBef>
                <a:spcPts val="1001"/>
              </a:spcBef>
              <a:buClr>
                <a:srgbClr val="3494ba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quired Documen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spcBef>
                <a:spcPts val="1001"/>
              </a:spcBef>
              <a:buClr>
                <a:srgbClr val="3494ba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olicies and Procedures- What you need to know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spcBef>
                <a:spcPts val="1001"/>
              </a:spcBef>
              <a:buClr>
                <a:srgbClr val="3494ba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imelin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spcBef>
                <a:spcPts val="1001"/>
              </a:spcBef>
              <a:buClr>
                <a:srgbClr val="3494ba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mportant Reminder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spcBef>
                <a:spcPts val="1001"/>
              </a:spcBef>
              <a:buClr>
                <a:srgbClr val="3494ba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Q &amp; 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spcBef>
                <a:spcPts val="1001"/>
              </a:spcBef>
              <a:buClr>
                <a:srgbClr val="3494ba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osing Remark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Slide Number Placeholder 1"/>
          <p:cNvSpPr/>
          <p:nvPr/>
        </p:nvSpPr>
        <p:spPr>
          <a:xfrm>
            <a:off x="6445080" y="6041880"/>
            <a:ext cx="5652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E0F2A9-38E5-469A-A3E0-B34612BAAB83}" type="slidenum">
              <a:rPr b="1" lang="en-US" sz="1300" spc="-1" strike="noStrike">
                <a:solidFill>
                  <a:srgbClr val="3494ba"/>
                </a:solidFill>
                <a:latin typeface="Trebuchet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Required Certifications</a:t>
            </a:r>
            <a:endParaRPr b="0" lang="en-US" sz="44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838080" y="1219320"/>
            <a:ext cx="7467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OIG General Exclusion Addendum –prohibits you from hiring certain individuals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3" marL="74772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Required to do initial and monthly OIG checks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3" marL="74772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By signing form, you are confirming that you meet the requirements and can show evidence of such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Supplier Diversity Office Certification-Women and Minority Owned businesses only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Slide Number Placeholder 1"/>
          <p:cNvSpPr/>
          <p:nvPr/>
        </p:nvSpPr>
        <p:spPr>
          <a:xfrm>
            <a:off x="6445080" y="6041880"/>
            <a:ext cx="565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8D5285-023B-4B58-97B5-C314916E08C4}" type="slidenum">
              <a:rPr b="1" lang="en-US" sz="1300" spc="-1" strike="noStrike">
                <a:solidFill>
                  <a:srgbClr val="3494ba"/>
                </a:solidFill>
                <a:latin typeface="Trebuchet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Required Certifications</a:t>
            </a:r>
            <a:endParaRPr b="0" lang="en-US" sz="36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80880" y="102240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Providers </a:t>
            </a:r>
            <a:r>
              <a:rPr b="1" lang="en-US" sz="2200" spc="-1" strike="noStrike">
                <a:solidFill>
                  <a:srgbClr val="404040"/>
                </a:solidFill>
                <a:latin typeface="Trebuchet MS"/>
              </a:rPr>
              <a:t>must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have encryption softwar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A member of the Boston Consortium will be reaching out to your agency in July, 2022 for confirmation that your agency can send an encrypted email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Encryption “disguises” sensitive information (PHI) from being read by others who can intercept an email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PHI is any information, including demographic information, about health status, health care services, or payment for health care services, that can be linked to a specific individual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Providers </a:t>
            </a:r>
            <a:r>
              <a:rPr b="1" lang="en-US" sz="2200" spc="-1" strike="noStrike">
                <a:solidFill>
                  <a:srgbClr val="404040"/>
                </a:solidFill>
                <a:latin typeface="Trebuchet MS"/>
              </a:rPr>
              <a:t>must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have a business domain for their e-mail address  (ex. @bshcinfo.org)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Slide Number Placehold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85E00E-20F4-4693-94E1-F16A5A90490E}" type="slidenum">
              <a:rPr b="1" lang="en-US" sz="1300" spc="-1" strike="noStrike">
                <a:solidFill>
                  <a:srgbClr val="3494ba"/>
                </a:solidFill>
                <a:latin typeface="Trebuchet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Required Certifications</a:t>
            </a:r>
            <a:endParaRPr b="0" lang="en-US" sz="36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294920"/>
            <a:ext cx="8074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omputer requirement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You must meet minimum hardware and software requirements for billing and communica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Your signature confirms you can meet these requirement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Slide Number Placehold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A77BF7-A2FE-4643-B073-E6654CD0D8BC}" type="slidenum">
              <a:rPr b="1" lang="en-US" sz="1300" spc="-1" strike="noStrike">
                <a:solidFill>
                  <a:srgbClr val="3494ba"/>
                </a:solidFill>
                <a:latin typeface="Trebuchet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olicies and Procedures- What You Need to Know</a:t>
            </a:r>
            <a:endParaRPr b="0" lang="en-US" sz="32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6840" y="1599840"/>
            <a:ext cx="807732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RFP contains a chart with all policy and procedure requirements, and explains what will be reviewed at on site monitoring visits by ASAP staff (e.g., Fraud, Waste and Abuse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Bidders must be able to demonstrate they’re following required policies and procedures and all staff have been trained on all policies and procedure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ocumentation must be provided during on site monitoring visit that training has occurred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Slide Number Placehold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28D791-E84D-40B3-ADF3-13744EE8E9AD}" type="slidenum">
              <a:rPr b="1" lang="en-US" sz="1300" spc="-1" strike="noStrike">
                <a:solidFill>
                  <a:srgbClr val="3494ba"/>
                </a:solidFill>
                <a:latin typeface="Trebuchet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481788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Timeline</a:t>
            </a:r>
            <a:endParaRPr b="0" lang="en-US" sz="36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Request for Proposals for FY 2022- FY2025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533520" y="1447920"/>
          <a:ext cx="8153280" cy="443232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29664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2480" marR="42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494ba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2480" marR="42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494ba"/>
                    </a:solidFill>
                  </a:tcPr>
                </a:tc>
              </a:tr>
              <a:tr h="119232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May 1, 20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2480" marR="42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494ba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dvertisement in Boston Globe (May 1) and Bay State Banner (May 5), RFP posted on ASAP websi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2480" marR="42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59544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May 12, 20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2480" marR="42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494ba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idders Confer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2480" marR="42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9508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June 27, 2022 by 12p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2480" marR="42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494ba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posals d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2480" marR="42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15740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Month of Augu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2480" marR="42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494ba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posals reviewed and scored, and vendors selec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2480" marR="42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844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September 2, 20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2480" marR="42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494ba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ntracts Award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2480" marR="42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9700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rebuchet MS"/>
                          <a:ea typeface="Calibri"/>
                        </a:rPr>
                        <a:t>October 1, 20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2480" marR="42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494ba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Calibri"/>
                        </a:rPr>
                        <a:t>New contracts 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2480" marR="42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310" name="Slide Number Placehold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B5910B-A0ED-4A0B-AE0F-AA408B5D2CF4}" type="slidenum">
              <a:rPr b="1" lang="en-US" sz="1300" spc="-1" strike="noStrike">
                <a:solidFill>
                  <a:srgbClr val="3494ba"/>
                </a:solidFill>
                <a:latin typeface="Trebuchet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rebuchet MS"/>
              </a:rPr>
              <a:t>Important Reminders About the Bid!</a:t>
            </a:r>
            <a:endParaRPr b="0" lang="en-US" sz="38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36440" y="990360"/>
            <a:ext cx="85312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276f8b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Proposal </a:t>
            </a:r>
            <a:r>
              <a:rPr b="1" lang="en-US" sz="2200" spc="-1" strike="noStrike">
                <a:solidFill>
                  <a:srgbClr val="404040"/>
                </a:solidFill>
                <a:latin typeface="Trebuchet MS"/>
              </a:rPr>
              <a:t>must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be uploaded by </a:t>
            </a:r>
            <a:r>
              <a:rPr b="1" lang="en-US" sz="2200" spc="-1" strike="noStrike">
                <a:solidFill>
                  <a:srgbClr val="1d6295"/>
                </a:solidFill>
                <a:latin typeface="Trebuchet MS"/>
              </a:rPr>
              <a:t>June 27, 2022 at 12:00 PM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-applications received after this date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Trebuchet MS"/>
              </a:rPr>
              <a:t>will not be considered.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276f8b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Questions can be submitted through June 20</a:t>
            </a:r>
            <a:r>
              <a:rPr b="0" lang="en-US" sz="2200" spc="-1" strike="noStrike" baseline="30000">
                <a:solidFill>
                  <a:srgbClr val="404040"/>
                </a:solidFill>
                <a:latin typeface="Trebuchet MS"/>
              </a:rPr>
              <a:t>th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by 12:00 PM to </a:t>
            </a:r>
            <a:r>
              <a:rPr b="1" lang="en-US" sz="2200" spc="-1" strike="noStrike">
                <a:solidFill>
                  <a:srgbClr val="404040"/>
                </a:solidFill>
                <a:latin typeface="Trebuchet MS"/>
              </a:rPr>
              <a:t>BostonConsortium@centralboston.or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276f8b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If applying for Personal Care/Homemaking/Supportive Home Care Aide service, you must submit through the NOI Process  </a:t>
            </a:r>
            <a:r>
              <a:rPr b="0" lang="en-US" sz="2800" spc="-1" strike="noStrike" u="sng">
                <a:solidFill>
                  <a:srgbClr val="6b9f25"/>
                </a:solidFill>
                <a:uFillTx/>
                <a:latin typeface="Trebuchet MS"/>
                <a:hlinkClick r:id="rId1"/>
              </a:rPr>
              <a:t>https://noi.800ageinfo.com/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276f8b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276f8b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Slide Number Placehold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831990-6E45-47DB-97A7-818C39E88F8A}" type="slidenum">
              <a:rPr b="1" lang="en-US" sz="1300" spc="-1" strike="noStrike">
                <a:solidFill>
                  <a:srgbClr val="3494ba"/>
                </a:solidFill>
                <a:latin typeface="Trebuchet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Questions</a:t>
            </a:r>
            <a:endParaRPr b="0" lang="en-US" sz="4800" spc="-1" strike="noStrike">
              <a:solidFill>
                <a:srgbClr val="3494ba"/>
              </a:solidFill>
              <a:latin typeface="Trebuchet MS"/>
            </a:endParaRPr>
          </a:p>
        </p:txBody>
      </p:sp>
      <p:pic>
        <p:nvPicPr>
          <p:cNvPr id="315" name="Content Placeholder 3" descr="301 Moved Permanently"/>
          <p:cNvPicPr/>
          <p:nvPr/>
        </p:nvPicPr>
        <p:blipFill>
          <a:blip r:embed="rId1"/>
          <a:stretch/>
        </p:blipFill>
        <p:spPr>
          <a:xfrm>
            <a:off x="914400" y="1447920"/>
            <a:ext cx="6781680" cy="4593960"/>
          </a:xfrm>
          <a:prstGeom prst="rect">
            <a:avLst/>
          </a:prstGeom>
          <a:ln w="0">
            <a:noFill/>
          </a:ln>
        </p:spPr>
      </p:pic>
      <p:sp>
        <p:nvSpPr>
          <p:cNvPr id="316" name="Slide Number Placehold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89234E-28FB-4084-B4FB-E1654C0EDDFA}" type="slidenum">
              <a:rPr b="1" lang="en-US" sz="1300" spc="-1" strike="noStrike">
                <a:solidFill>
                  <a:srgbClr val="3494ba"/>
                </a:solidFill>
                <a:latin typeface="Trebuchet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82800" y="35532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Welcome &amp; Introduction</a:t>
            </a:r>
            <a:endParaRPr b="0" lang="en-US" sz="44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982800" y="1676160"/>
            <a:ext cx="72468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Boston Senior Home Care – Amy Lord, Melissa Diaz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entral Boston Elder Services – Sylvia Exantus &amp; Jean Tiernen, Aixa Marcia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Ethos – Margery Gann, Paul Rinaldi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Slide Number Placehold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E6D177-883D-410B-9BDA-F5D71307197C}" type="slidenum">
              <a:rPr b="1" lang="en-US" sz="1300" spc="-1" strike="noStrike">
                <a:solidFill>
                  <a:srgbClr val="3494ba"/>
                </a:solidFill>
                <a:latin typeface="Trebuchet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General Overview of RFP Process</a:t>
            </a:r>
            <a:endParaRPr b="0" lang="en-US" sz="36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e three Boston ASAPs (Boston Consortium) conducting a competitive bid for all client purchased services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e bid -</a:t>
            </a: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Request for Proposal (RFP)-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does not include</a:t>
            </a: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20720" indent="-2772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Home delivered meals, o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20720" indent="-2772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Homemaking/Personal Care/Supportive Home Care Aide service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20720" indent="-2772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Personal Care/Homemaking/Supportive Home Care Aide is procured by EOEA through NOI Process </a:t>
            </a:r>
            <a:r>
              <a:rPr b="0" lang="en-US" sz="2200" spc="-1" strike="noStrike" u="sng">
                <a:solidFill>
                  <a:srgbClr val="6b9f25"/>
                </a:solidFill>
                <a:uFillTx/>
                <a:latin typeface="Trebuchet MS"/>
                <a:hlinkClick r:id="rId1"/>
              </a:rPr>
              <a:t>https://noi.800ageinfo.com/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20720" indent="-2772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No guarantee that bidders who apply for Personal Care/Homemaking/Supportive Home Care Aide through NOI will be considered for or receive a contrac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20720" indent="-277200">
              <a:spcBef>
                <a:spcPts val="75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20720" indent="-2772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Slide Number Placehold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B6CCDF-FDBB-4B2B-9356-E53ECDA7953F}" type="slidenum">
              <a:rPr b="1" lang="en-US" sz="1300" spc="-1" strike="noStrike">
                <a:solidFill>
                  <a:srgbClr val="3494ba"/>
                </a:solidFill>
                <a:latin typeface="Trebuchet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82800" y="457200"/>
            <a:ext cx="770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General Overview -continued</a:t>
            </a:r>
            <a:endParaRPr b="0" lang="en-US" sz="44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82440" y="1371240"/>
            <a:ext cx="648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bid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74304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Open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o new vendors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74304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Existing vendors with contracts must re-appl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74304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Bidders can apply to one, two or all three ASAPs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743040" indent="-34308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Bid submission deadline: June 27, 2022 at 12P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74304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2e75b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2e75b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2e75b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Slide Number Placehold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2BE3E2-40CB-485E-84C3-DFF7AE3FBA37}" type="slidenum">
              <a:rPr b="1" lang="en-US" sz="1300" spc="-1" strike="noStrike">
                <a:solidFill>
                  <a:srgbClr val="3494ba"/>
                </a:solidFill>
                <a:latin typeface="Trebuchet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82800" y="22824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General Overview -continued</a:t>
            </a:r>
            <a:endParaRPr b="0" lang="en-US" sz="36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75960" y="878040"/>
            <a:ext cx="8150040" cy="51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spcBef>
                <a:spcPts val="1001"/>
              </a:spcBef>
              <a:buClr>
                <a:srgbClr val="276f8b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20720" indent="-277200">
              <a:spcBef>
                <a:spcPts val="1001"/>
              </a:spcBef>
              <a:buClr>
                <a:srgbClr val="276f8b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RFP and all documents are posted on BSHC, CBES, &amp; Ethos’ websites at </a:t>
            </a:r>
            <a:r>
              <a:rPr b="0" lang="en-US" sz="2400" spc="-1" strike="noStrike" u="sng">
                <a:solidFill>
                  <a:srgbClr val="6b9f25"/>
                </a:solidFill>
                <a:uFillTx/>
                <a:latin typeface="Trebuchet MS"/>
                <a:hlinkClick r:id="rId1"/>
              </a:rPr>
              <a:t>www.bshcinfo.org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, </a:t>
            </a:r>
            <a:r>
              <a:rPr b="0" lang="en-US" sz="2400" spc="-1" strike="noStrike" u="sng">
                <a:solidFill>
                  <a:srgbClr val="6b9f25"/>
                </a:solidFill>
                <a:uFillTx/>
                <a:latin typeface="Trebuchet MS"/>
                <a:hlinkClick r:id="rId2"/>
              </a:rPr>
              <a:t>www.centralboston.org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, </a:t>
            </a:r>
            <a:r>
              <a:rPr b="0" lang="en-US" sz="2400" spc="-1" strike="noStrike" u="sng">
                <a:solidFill>
                  <a:srgbClr val="6b9f25"/>
                </a:solidFill>
                <a:uFillTx/>
                <a:latin typeface="Trebuchet MS"/>
                <a:hlinkClick r:id="rId3"/>
              </a:rPr>
              <a:t>www.ethocare.org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. Submissions will be electronic only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20720" indent="-277200">
              <a:spcBef>
                <a:spcPts val="1001"/>
              </a:spcBef>
              <a:buClr>
                <a:srgbClr val="276f8b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ll bidder questions related to bid </a:t>
            </a:r>
            <a:r>
              <a:rPr b="0" i="1" lang="en-US" sz="2400" spc="-1" strike="noStrike">
                <a:solidFill>
                  <a:srgbClr val="404040"/>
                </a:solidFill>
                <a:latin typeface="Trebuchet MS"/>
              </a:rPr>
              <a:t>must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be communicated via e-mail to </a:t>
            </a:r>
            <a:r>
              <a:rPr b="0" lang="en-US" sz="2600" spc="-1" strike="noStrike" u="sng">
                <a:solidFill>
                  <a:srgbClr val="6b9f25"/>
                </a:solidFill>
                <a:uFillTx/>
                <a:latin typeface="Calibri"/>
                <a:hlinkClick r:id="rId4"/>
              </a:rPr>
              <a:t>BostonConsortium@centralboston.or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y EOD Friday, June 1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.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20720" indent="-277200">
              <a:spcBef>
                <a:spcPts val="1001"/>
              </a:spcBef>
              <a:buClr>
                <a:srgbClr val="276f8b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Bidders </a:t>
            </a: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should not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ommunicate directly with ASAP staff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1108440" indent="-221400">
              <a:spcBef>
                <a:spcPts val="1001"/>
              </a:spcBef>
              <a:buClr>
                <a:srgbClr val="276f8b"/>
              </a:buClr>
              <a:buSzPct val="8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nswers will be posted on BSHC, CBES, &amp; Ethos’ websit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1108440" indent="-221400">
              <a:spcBef>
                <a:spcPts val="1001"/>
              </a:spcBef>
              <a:buClr>
                <a:srgbClr val="276f8b"/>
              </a:buClr>
              <a:buSzPct val="8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2" marL="1108440" indent="-221400">
              <a:spcBef>
                <a:spcPts val="1001"/>
              </a:spcBef>
              <a:buClr>
                <a:srgbClr val="276f8b"/>
              </a:buClr>
              <a:buSzPct val="8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2" marL="1108440" indent="-221400">
              <a:spcBef>
                <a:spcPts val="1001"/>
              </a:spcBef>
              <a:buClr>
                <a:srgbClr val="276f8b"/>
              </a:buClr>
              <a:buSzPct val="8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720720" indent="-277200">
              <a:spcBef>
                <a:spcPts val="1001"/>
              </a:spcBef>
              <a:buClr>
                <a:srgbClr val="276f8b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720720" indent="-277200">
              <a:spcBef>
                <a:spcPts val="1001"/>
              </a:spcBef>
              <a:buClr>
                <a:srgbClr val="276f8b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20720" indent="-277200">
              <a:spcBef>
                <a:spcPts val="1001"/>
              </a:spcBef>
              <a:buClr>
                <a:srgbClr val="276f8b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20720" indent="-277200">
              <a:spcBef>
                <a:spcPts val="1001"/>
              </a:spcBef>
              <a:buClr>
                <a:srgbClr val="276f8b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" name="Slide Number Placehold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131E66-C0AE-4E1A-99C2-3C4277457A83}" type="slidenum">
              <a:rPr b="1" lang="en-US" sz="1300" spc="-1" strike="noStrike">
                <a:solidFill>
                  <a:srgbClr val="3494ba"/>
                </a:solidFill>
                <a:latin typeface="Trebuchet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RFP Documents</a:t>
            </a:r>
            <a:endParaRPr b="0" lang="en-US" sz="40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121896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To apply, you must submit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RFP Checklis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Cover letter signed by agency’s authorized signatory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Completed Administrative Overview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Company Summary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Organizational Char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Attachment C Geographic Service Area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Attachment D Service rate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Slide Number Placehold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844717-2F1F-4CF1-BA54-4A096F60A991}" type="slidenum">
              <a:rPr b="1" lang="en-US" sz="1300" spc="-1" strike="noStrike">
                <a:solidFill>
                  <a:srgbClr val="3494ba"/>
                </a:solidFill>
                <a:latin typeface="Trebuchet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RFP Documents -continued</a:t>
            </a:r>
            <a:endParaRPr b="0" lang="en-US" sz="44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690200"/>
            <a:ext cx="8229600" cy="44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rvice specific requirements for each service you are applying fo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Quality Improvement Pla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ent Not at Home policy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inancial submission requirement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Required certifications: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Office of Inspector General Exclusion addendum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omputer Software Minimum Requirements Certificatio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upplier Diversity Office Certification, if applicable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Slide Number Placehold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B57AFB-3FF7-4F9C-B4A2-4A2DD235BC19}" type="slidenum">
              <a:rPr b="1" lang="en-US" sz="1300" spc="-1" strike="noStrike">
                <a:solidFill>
                  <a:srgbClr val="3494ba"/>
                </a:solidFill>
                <a:latin typeface="Trebuchet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RFP Checklist </a:t>
            </a:r>
            <a:endParaRPr b="0" lang="en-US" sz="4400" spc="-1" strike="noStrike">
              <a:solidFill>
                <a:srgbClr val="3494ba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82800" y="1690560"/>
            <a:ext cx="77040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Checklist is part of the application package (this is your table of contents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Documents should be submitted in the order listed on the checklis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Documents should be numbered and labelled according to the RFP Checklis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Please note “N/A” as appropriate</a:t>
            </a: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Slide Number Placehold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00B015-69AD-40B5-A817-00FE6BC4BAE0}" type="slidenum">
              <a:rPr b="1" lang="en-US" sz="1300" spc="-1" strike="noStrike">
                <a:solidFill>
                  <a:srgbClr val="3494ba"/>
                </a:solidFill>
                <a:latin typeface="Trebuchet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5:13:27Z</dcterms:created>
  <dc:creator>BSHC</dc:creator>
  <dc:description/>
  <dc:language>en-US</dc:language>
  <cp:lastModifiedBy>Aixa Marcial</cp:lastModifiedBy>
  <cp:lastPrinted>2019-05-15T15:36:52Z</cp:lastPrinted>
  <dcterms:modified xsi:type="dcterms:W3CDTF">2022-05-10T20:02:19Z</dcterms:modified>
  <cp:revision>151</cp:revision>
  <dc:subject/>
  <dc:title>The Boston Consortium Bidder’s Conference</dc:title>
</cp:coreProperties>
</file>